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5F9-C598-4C7F-A449-5D303CFC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E34-564E-4140-8194-3DBFD86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0A9-9F34-4A56-9C32-C680540E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990-F421-4F45-AA05-D57B5077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C48-637F-42E1-A2ED-EDA7E95A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D99-5492-47E3-90E8-D4EEF796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DC7-465E-42BC-A83E-E53BD039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93E-E242-411A-994A-1ACEE8A6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A4A-767A-4878-B2F4-419C2DA3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72D-6B78-4236-9DA2-28866A8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B79-AD6F-4AF1-BCEB-61CCD02C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9F2-B7A9-4881-A5A1-30F0457F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B32E-CB61-4BCC-9625-294A3A9E0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Free Body Diagram Calculations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5334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ti Andre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a Salle 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5228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1 – Draw a free-body diagram for a box resting on a flat surfa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143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90920" y="914400"/>
          <a:ext cx="343836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914400"/>
                    <a:ext cx="343836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26708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28600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67080" y="1066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9907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04920"/>
            <a:ext cx="86868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the box has a mass of 10. kg, what is F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276720"/>
            <a:ext cx="4419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mg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289548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the object is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943240" y="33526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57913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YI: A bathroom scale always shows the 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4419720"/>
            <a:ext cx="5029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mg    and therefore                                           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10 kg)(9.81N) =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98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280"/>
            <a:ext cx="83055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2 – Draw a free-body diagram for a box resting on a flat surface and being pushed by a hand with a force of 40.0 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4572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280"/>
            <a:ext cx="8305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the box has a mass of 10. kg, what is the normal force on the bo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4572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14479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mg +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133720"/>
            <a:ext cx="46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10 kg)(9.81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4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6668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38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s it “legal” to add these units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90960" y="19810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522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3 – Using the same free-body diagram for a box resting on a flat surface,  this time we’ll pull on it using a rope and a force of 40.0 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956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5812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049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normal force if the mass is again 10. k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4956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5812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9907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819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99072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mg -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1676520"/>
            <a:ext cx="5791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(10.kg)(9.81m/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– 40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51460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58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4:52:46Z</dcterms:created>
  <dc:creator>marti andreski</dc:creator>
  <dc:description/>
  <dc:language>en-US</dc:language>
  <cp:lastModifiedBy>andreskim</cp:lastModifiedBy>
  <dcterms:modified xsi:type="dcterms:W3CDTF">2004-10-11T14:15:18Z</dcterms:modified>
  <cp:revision>123</cp:revision>
  <dc:subject/>
  <dc:title>Why Study Physics?</dc:title>
</cp:coreProperties>
</file>